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999A-E67E-4001-935A-DFA244F9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67FD-6CDD-4697-8BCA-137D5A82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23C3-452D-4E1D-87AF-300B8FDC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EF2E-C0BC-4C02-B031-63A4EAF8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F5E3-3D6D-4EBD-9BE3-3FCF4AA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7B32-1ECE-433B-A726-DF4BF4F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FFD-B0B3-4A6D-B41F-3978E52C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44C-E54C-45A1-B8A8-00942B1D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4D3C-B660-4C2D-B5D0-1C99B488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0DC6-CDD7-42E0-9825-D6BD683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2768-1140-43F4-8E11-6A7818F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1D05-505A-4BA5-BB4B-CEAC9A18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B95A-A258-41A3-8734-75E847D6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FA7B-D765-4A9C-93C4-4F5DF61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876B-F01B-4982-A69A-44911B3E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E080-0A87-4C4E-AE60-5D9C5AEC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50B0-CDF8-4DDD-9FC6-D74F450E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DE3B-3F15-4C6D-85F2-7BA3B746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C226-822F-45CC-A693-C3079A0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DBC3-9B67-4E28-BB74-3539988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6B90-2132-4C7F-81C7-A820160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3DD9-E7D0-4F60-B477-49F9D41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7587-EEF4-438B-8534-F9BEC1D6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1DBF-149B-4EB7-8777-E91ACF40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842-90F3-4F41-B0F1-13FB1B0264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2A8-6D1A-46D8-9CB6-FCD7C878A1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brl.org/int/gl/2007-04-17/GLFramework-REC-2007-04-17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71840" y="1371600"/>
            <a:ext cx="529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ACG 5405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BRL – Global Ledg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ry Detai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ll togeth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xbrl ...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schemaRef ....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context 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unit 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gl-cor:accountingEntries....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gl-cor:documentInfo .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gl-cor:entityInformation .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gl-cor:entryHeader ....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gl-cor:entryDetail ...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gl-cor:accountingEntri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schemaRef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xbr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BRL-GL container ele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element is &lt;xbr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XBRL-GL container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 single XBRL GL file c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tore one or more virtual XBRL GL files, through one or more &lt;accountingEntries&gt; structures with data inside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ngle physical XBRL GL file can have multiple accountingEntries structures to represent both transactions and master fil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ces are signified by the appropriate entriesType enumerated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i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tail behind the Financi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art of Accounts, Journal Entries, Source Documents, any financial inform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all financi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E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BRL GL and XBR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BRL GL is contained with XBR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brl ...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amespace declara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schemaRef ....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chema declara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BRL GL structure follows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lett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ike XBR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mmercial &amp; Industr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ank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binations of taxonomies are used depending on the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Palett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e Taxon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ow organizations to track much more detail as part of every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entory and business metrics, organizational detail and the Entity Information section, and other common i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supplement the resources, agents and events that re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customer, vendor and employee related transactional detail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UC - MultiCurrenc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ail for the Entity Information section, additional sections necessary for other add-on modules, and information for business metrics/inventory track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SK – US/UK Account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g journal entries, accounting master files, and historical status reports with additional information necessary for more sophisticated accounting needs common to Saxon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AF – Tax and Tax Audi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d by the international tax agenci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lettes will u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Taxono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t schem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in SchemaR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ent schem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d in XBRL namespace declar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to look up element na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BRL Structu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601992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ocument Inform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 description of the accounting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635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ity Information Se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descriptive information about the Entity’s accounting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ry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4521240" cy="4419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52880" y="5105520"/>
            <a:ext cx="3124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38:08Z</dcterms:created>
  <dc:creator> </dc:creator>
  <dc:description/>
  <dc:language>en-US</dc:language>
  <cp:lastModifiedBy> </cp:lastModifiedBy>
  <dcterms:modified xsi:type="dcterms:W3CDTF">2009-07-14T15:34:31Z</dcterms:modified>
  <cp:revision>43</cp:revision>
  <dc:subject/>
  <dc:title>ACG 5405</dc:title>
</cp:coreProperties>
</file>